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4358"/>
        <c:axId val="999984"/>
      </c:barChart>
      <c:catAx>
        <c:axId val="29994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84"/>
        <c:crosses val="autoZero"/>
        <c:auto val="1"/>
        <c:lblAlgn val="ctr"/>
        <c:lblOffset val="100"/>
        <c:noMultiLvlLbl val="0"/>
      </c:catAx>
      <c:valAx>
        <c:axId val="999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4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9D6-3A15-4C9B-86B1-16D58FD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B61-6E23-4E39-96B1-4EBCEE23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93D-52B5-40BA-BDC4-1035C8D4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21C-CEE4-4527-82B1-AEDCEF8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843-5A3A-496A-8431-E66B1B9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E31-95E5-4E7B-9236-DCAFDBEB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BC0-2E9D-44B0-8756-8C51716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0F9-F87E-4708-8E77-3C134824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72A-654D-4BA8-985F-FE3E5FD6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0B-EF30-4BD2-9C2F-7EB6A07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E35-DD63-4228-B4BA-3391598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E6F-FF73-4485-A58C-74A31A7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408FC-9EA8-4B40-9FDD-6F8F66315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