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221307"/>
        <c:axId val="65214978"/>
      </c:barChart>
      <c:catAx>
        <c:axId val="392213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214978"/>
        <c:crosses val="autoZero"/>
        <c:auto val="1"/>
        <c:lblAlgn val="ctr"/>
        <c:lblOffset val="100"/>
        <c:noMultiLvlLbl val="0"/>
      </c:catAx>
      <c:valAx>
        <c:axId val="6521497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2213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4638-B8D2-47CD-92C1-7CD898869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D48D-7644-4D0B-A224-48C607546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7DD8-8721-45C4-A351-DF1B8DD45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A8AE-569B-4589-8664-6B9AA6C58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512A1-3B7C-4490-96A7-59EF573D8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C631-72BC-468D-BA5A-2F5A2DD13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89D5-433D-4725-8FB1-30239A78B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6F5F-D4B3-4E80-A621-AFF4798B2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6D3D-9FCF-4188-BB2C-B430DD324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891B6-FEB4-47ED-A65A-A344CEE9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12A9-D00F-45A3-A53D-64FEA34F0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05CF-5C75-49E9-8C7B-51055CE7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355EA9-B6A0-4E6E-91A1-792D0F57A70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